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47.jpeg" ContentType="image/jpeg"/>
  <Override PartName="/ppt/media/image50.png" ContentType="image/png"/>
  <Override PartName="/ppt/media/image33.png" ContentType="image/png"/>
  <Override PartName="/ppt/media/image48.png" ContentType="image/png"/>
  <Override PartName="/ppt/media/image11.png" ContentType="image/png"/>
  <Override PartName="/ppt/media/image19.jpeg" ContentType="image/jpeg"/>
  <Override PartName="/ppt/media/image25.png" ContentType="image/png"/>
  <Override PartName="/ppt/media/image51.wmf" ContentType="image/x-wmf"/>
  <Override PartName="/ppt/media/image29.png" ContentType="image/png"/>
  <Override PartName="/ppt/media/image66.png" ContentType="image/png"/>
  <Override PartName="/ppt/media/image64.png" ContentType="image/png"/>
  <Override PartName="/ppt/media/image10.jpeg" ContentType="image/jpeg"/>
  <Override PartName="/ppt/media/image27.jpeg" ContentType="image/jpeg"/>
  <Override PartName="/ppt/media/image52.png" ContentType="image/png"/>
  <Override PartName="/ppt/media/image63.png" ContentType="image/png"/>
  <Override PartName="/ppt/media/image14.png" ContentType="image/png"/>
  <Override PartName="/ppt/media/image2.png" ContentType="image/png"/>
  <Override PartName="/ppt/media/image32.png" ContentType="image/png"/>
  <Override PartName="/ppt/media/image62.png" ContentType="image/png"/>
  <Override PartName="/ppt/media/image28.jpeg" ContentType="image/jpeg"/>
  <Override PartName="/ppt/media/image60.png" ContentType="image/png"/>
  <Override PartName="/ppt/media/image21.jpeg" ContentType="image/jpeg"/>
  <Override PartName="/ppt/media/image65.png" ContentType="image/png"/>
  <Override PartName="/ppt/media/image3.png" ContentType="image/png"/>
  <Override PartName="/ppt/media/image15.png" ContentType="image/png"/>
  <Override PartName="/ppt/media/image24.jpeg" ContentType="image/jpeg"/>
  <Override PartName="/ppt/media/image59.png" ContentType="image/png"/>
  <Override PartName="/ppt/media/image5.jpeg" ContentType="image/jpeg"/>
  <Override PartName="/ppt/media/image61.png" ContentType="image/png"/>
  <Override PartName="/ppt/media/image1.jpeg" ContentType="image/jpeg"/>
  <Override PartName="/ppt/media/image22.jpeg" ContentType="image/jpeg"/>
  <Override PartName="/ppt/media/image26.png" ContentType="image/png"/>
  <Override PartName="/ppt/media/image8.jpeg" ContentType="image/jpeg"/>
  <Override PartName="/ppt/media/image39.jpeg" ContentType="image/jpeg"/>
  <Override PartName="/ppt/media/image17.png" ContentType="image/png"/>
  <Override PartName="/ppt/media/image9.jpeg" ContentType="image/jpe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6.png" ContentType="image/png"/>
  <Override PartName="/ppt/media/image4.png" ContentType="image/png"/>
  <Override PartName="/ppt/media/image7.jpeg" ContentType="image/jpeg"/>
  <Override PartName="/ppt/media/image38.jpeg" ContentType="image/jpeg"/>
  <Override PartName="/ppt/media/image12.png" ContentType="image/png"/>
  <Override PartName="/ppt/media/image49.png" ContentType="image/png"/>
  <Override PartName="/ppt/media/image13.png" ContentType="image/png"/>
  <Override PartName="/ppt/media/image30.png" ContentType="image/png"/>
  <Override PartName="/ppt/media/image31.png" ContentType="image/png"/>
  <Override PartName="/ppt/media/image34.jpeg" ContentType="image/jpeg"/>
  <Override PartName="/ppt/media/image37.png" ContentType="image/png"/>
  <Override PartName="/ppt/media/image35.png" ContentType="image/png"/>
  <Override PartName="/ppt/media/image43.jpeg" ContentType="image/jpeg"/>
  <Override PartName="/ppt/media/image40.png" ContentType="image/png"/>
  <Override PartName="/ppt/media/image41.png" ContentType="image/png"/>
  <Override PartName="/ppt/media/image42.png" ContentType="image/png"/>
  <Override PartName="/ppt/media/image44.png" ContentType="image/png"/>
  <Override PartName="/ppt/media/image45.wmf" ContentType="image/x-wmf"/>
  <Override PartName="/ppt/media/image4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62D818-F4B9-44E7-8325-E6F3A7B37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B4BAAD-4581-4FAA-B8EE-D486477FBB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E99A1-D541-4263-94CC-5DAA01D44F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0BF97E-5F31-4C62-B425-EFAD64F49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008A88-900F-461D-9145-9A244DB41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D1E01-3C1B-46D7-8ACD-3D3923745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0F44D9-6810-4CE3-81F7-9ACC6A9D7D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06D075-8847-4A4D-85A6-397638B775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BFC43A-E86D-4A48-A797-F06534A95D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CF4EAD-3630-4DE8-87E1-8810029EBF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F27EDC-8E53-4A2B-9F42-65AD92C169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923A0-E793-4EFC-8AA4-8AA0CC8CFE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9DEE3-EF98-480A-B882-022CD85C40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E221C0-73C9-4AD2-A17D-8783685F0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B0A8AF-07AC-44EA-B1DB-4D53201ED7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C58D8A-8BD8-4051-B9D1-967D8C33F8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B4F674-A766-43C5-9188-D6A008F2C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7652F7-B654-4B56-BB5F-67DF3394B6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C9254-1E11-4964-90B5-1C6BFB9A8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34769C-7760-4BA5-927D-037C782810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541E8D-C4B1-4268-BF38-3201313C5F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B4BD95-97BA-4DB8-885B-06DC0FFE46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EA4D62-3995-499D-97ED-6A93F7A9F2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EB421D-58A4-48D6-A435-A977297F96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CB508B-0047-401A-8A7F-E923B6B754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DC9C71-08F0-4D48-B718-EA24D4C307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86BB01-F525-4BE0-98FE-F9C4A2900B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5ED8DB-0FE9-49E5-BF1D-3AC12C963F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32AEC9-5D98-41D2-AEC5-D13EBFDB5C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E50C0-FCE9-4B53-8ED5-50B65BFBB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DE90DF-C5EA-463A-B7B6-578FB056CF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7F2CA3-2145-450F-9902-F3490FA07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1CD7FA-7944-44E5-BE1C-A2A2585592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FCED53-E30D-4597-953B-B50DA37CD0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3CFF33-DB48-4AF8-83B6-6C4043666E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0E2E68-F160-4F6A-A4F5-812751F632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617E73-5D36-4E09-A75B-B90FC0ECC2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89E751-630E-4E41-92D7-A00428B25A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CFAE60-6F51-4D1A-914E-6313BF167B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F6561E-8742-4EB5-85C8-BDF0FB92AC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4DCC0-3488-4335-916E-6ADD2CDA7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B90BB1-E966-4452-8E84-FC4EC33E22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99FB13-5793-4B0D-8B70-919074C5CC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F24114-5007-439C-9FE6-120A575A56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8AEF1D-B511-4305-BC16-BB85F130BB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FA0A32-0C53-4BAF-9167-F51D4B8E28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10DEB0-D3B4-4168-A4FC-2593440422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16B7CA-D1C3-4403-9FF0-4A6CA7D536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19A0E-758A-431C-8EF4-0E6B8A539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73612-16A3-4071-9DC2-43DE3551B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E53F5-70DE-4716-B7C8-9B8F3128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5481-5E29-48A8-A50D-A640E1A03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FEAFD-0465-49A8-9985-1ADB692F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835B5-414C-450E-BD69-F00A59DFA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54C6A-FB07-45BB-B973-685B6AB28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E7094-3439-4CBE-AB87-26AB85382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3C1BB-D4A0-4179-82AF-DBB78502F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1CDAE-C186-4549-A148-13B9C070A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EFCF8-45CA-4D37-8D56-BEF90E46B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EF161-893F-4C7A-B078-8684FDA6C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60557-4276-4124-8692-70B5F020A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9D5D0-C037-4F15-8AEB-587AEA9AF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739E0-9387-47E1-8729-7F928FF2E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2712D-5A98-48F2-BE89-83987ADBF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8B376-5DA4-4690-A5FC-B33EE7206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961D5-00BE-4197-917F-FD276323F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64E6-8312-4C6F-98A7-4EB6C3162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FCC23-1855-4613-883B-3B47E5B94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86563-8525-4A8C-826F-2448E810A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854F8-1709-4638-B829-F2F5254740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2BB52-8BB4-40C1-A360-6C593E675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21222-3869-4752-BB1A-5D15BB214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26CB0-5652-4460-99BE-1707ABCF1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19719-57E2-46DE-8220-195AFAF03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8773F6-413E-44AB-B7EA-DC95945D7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EC711-4AFA-4CBB-95C7-9BC298C1B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969AA-722F-4182-9C96-6534D02B3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89231-51ED-4261-BD86-979389F4A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DC0E4-7622-418A-95B4-8282FFF4F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143AF9-FE1A-4011-9B47-98167C6489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D6499C-D321-48A8-A5E4-4723165B2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596F0C-52BF-41EB-ABE9-06E8ACC689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09C1A-440E-489A-969F-E115865D2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23F79-72ED-443F-9660-D2C8570E4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89B03-2634-4928-B20D-8BC16DE5E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F31B78-0A08-4B77-B151-0CF4C65DC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24320-B3F8-41CF-A249-FD93027E8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8D96E-43C9-4A9C-A9D0-CA8F8E312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2A79B-DD73-462E-A19B-54EFF4B71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C6FA0-7C08-4988-8D81-8DCDCF38B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CEAA0-9689-4135-ABB2-F773477C3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14CACC-B0F8-4F01-8888-5C76D4241F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0F7C4F-3045-4C5D-B159-A579FBAE43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0122F-27B4-4522-8737-4551EB815B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24BF92-1DA4-4E4B-97C8-330FFE64F6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5EFF7-CA70-467C-BF99-757CAA930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EC47F-FF9A-4487-A110-0BE0F0EB8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FA4C2-EE14-4534-9FE4-7ECB72E5DC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044CD4-B2FD-4A98-9381-41B93652E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4B507-72C9-4171-9806-83A71172F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08F58-03E7-44D1-BF6E-D86383702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20FF0-801E-4840-936F-BC2FC10F1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53B27B-9F85-46E1-9DC5-48D990EE94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0D24F4-2DE6-4B52-BEA5-859D93EB1F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EF8BB5-FDBF-4EC8-83C2-19B3D25A8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1AB791-82FC-447E-BB9C-A241F9AD8C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24F07-BB16-41F3-A87D-D9745CD62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71C5FB-AE9F-4B2D-B244-D5E6E7E0A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1064FA-3BD8-4E1B-B06C-45D372C0A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17CF8-5519-4743-A5D5-6C21B97B03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A6CA7-6C2C-4356-B263-51BC4B6A1E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0ABCA-2E63-4DBC-AF65-F4F28C622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ABA25-989A-479E-BD21-BEE035041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AA1BE-5759-4891-AA3B-5912FCCD2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92FDDC-E782-4BAE-865A-3622C17A0F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4C1CE7-4B17-44AC-821E-D977B2D47A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77E121-3543-4F8C-8126-C60796EA34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958334-BF50-4306-AEA2-4DDB80BE75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FCF46D-2362-48FA-A2D8-3E711D42D1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9C4B80-8C50-4142-9883-79724B8B4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C04DA-DAFD-4245-9EC8-88349CF996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6ED33-3DCE-4E36-AEB9-33FAEC605B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F8CE29-1B93-415C-9879-A80245E339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343E8-4AB9-40EA-A987-EBE077174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6D3A3-7A07-478B-B3D0-4D294AF64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B7080-33A8-49AD-A062-BD5DD42D5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8CDA1D-00EF-41BC-9527-9B22604E87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0AA215-FD36-4F57-96FA-0C74D4D1FB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44F39F-B030-4BE4-83CC-2D4D7FF649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F14D7B-993F-465F-AE16-CCC33D83DE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B0C54-9CB9-4B90-AFCB-A75476B2D3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29234-DA15-40D2-9AFD-874125B60E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14.xml"/><Relationship Id="rId4" Type="http://schemas.openxmlformats.org/officeDocument/2006/relationships/slide" Target="slide29.xml"/><Relationship Id="rId5" Type="http://schemas.openxmlformats.org/officeDocument/2006/relationships/slide" Target="slide2.xml"/><Relationship Id="rId6" Type="http://schemas.openxmlformats.org/officeDocument/2006/relationships/slide" Target="slide3.xml"/><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5.jpeg"/><Relationship Id="rId12" Type="http://schemas.openxmlformats.org/officeDocument/2006/relationships/image" Target="../media/image6.png"/><Relationship Id="rId13" Type="http://schemas.openxmlformats.org/officeDocument/2006/relationships/slideLayout" Target="../slideLayouts/slideLayout109.xml"/><Relationship Id="rId14" Type="http://schemas.openxmlformats.org/officeDocument/2006/relationships/slideLayout" Target="../slideLayouts/slideLayout110.xml"/><Relationship Id="rId15" Type="http://schemas.openxmlformats.org/officeDocument/2006/relationships/slideLayout" Target="../slideLayouts/slideLayout111.xml"/><Relationship Id="rId16" Type="http://schemas.openxmlformats.org/officeDocument/2006/relationships/slideLayout" Target="../slideLayouts/slideLayout112.xml"/><Relationship Id="rId17" Type="http://schemas.openxmlformats.org/officeDocument/2006/relationships/slideLayout" Target="../slideLayouts/slideLayout113.xml"/><Relationship Id="rId18" Type="http://schemas.openxmlformats.org/officeDocument/2006/relationships/slideLayout" Target="../slideLayouts/slideLayout114.xml"/><Relationship Id="rId19" Type="http://schemas.openxmlformats.org/officeDocument/2006/relationships/slideLayout" Target="../slideLayouts/slideLayout115.xml"/><Relationship Id="rId20" Type="http://schemas.openxmlformats.org/officeDocument/2006/relationships/slideLayout" Target="../slideLayouts/slideLayout116.xml"/><Relationship Id="rId21" Type="http://schemas.openxmlformats.org/officeDocument/2006/relationships/slideLayout" Target="../slideLayouts/slideLayout117.xml"/><Relationship Id="rId22" Type="http://schemas.openxmlformats.org/officeDocument/2006/relationships/slideLayout" Target="../slideLayouts/slideLayout118.xml"/><Relationship Id="rId23" Type="http://schemas.openxmlformats.org/officeDocument/2006/relationships/slideLayout" Target="../slideLayouts/slideLayout119.xml"/><Relationship Id="rId2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3"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4"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5"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6"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7"/>
          <a:stretch/>
        </p:blipFill>
        <p:spPr>
          <a:xfrm>
            <a:off x="4059360" y="6407280"/>
            <a:ext cx="3457440" cy="334800"/>
          </a:xfrm>
          <a:prstGeom prst="rect">
            <a:avLst/>
          </a:prstGeom>
          <a:ln w="0">
            <a:noFill/>
          </a:ln>
        </p:spPr>
      </p:pic>
      <p:pic>
        <p:nvPicPr>
          <p:cNvPr id="358" name="9 Rectángulo" descr=""/>
          <p:cNvPicPr/>
          <p:nvPr/>
        </p:nvPicPr>
        <p:blipFill>
          <a:blip r:embed="rId8"/>
          <a:stretch/>
        </p:blipFill>
        <p:spPr>
          <a:xfrm>
            <a:off x="6566040" y="122400"/>
            <a:ext cx="2797200" cy="334800"/>
          </a:xfrm>
          <a:prstGeom prst="rect">
            <a:avLst/>
          </a:prstGeom>
          <a:ln w="0">
            <a:noFill/>
          </a:ln>
        </p:spPr>
      </p:pic>
      <p:pic>
        <p:nvPicPr>
          <p:cNvPr id="359" name="10 Rectángulo" descr=""/>
          <p:cNvPicPr/>
          <p:nvPr/>
        </p:nvPicPr>
        <p:blipFill>
          <a:blip r:embed="rId9"/>
          <a:stretch/>
        </p:blipFill>
        <p:spPr>
          <a:xfrm>
            <a:off x="6566040" y="480960"/>
            <a:ext cx="2869920" cy="336600"/>
          </a:xfrm>
          <a:prstGeom prst="rect">
            <a:avLst/>
          </a:prstGeom>
          <a:ln w="0">
            <a:noFill/>
          </a:ln>
        </p:spPr>
      </p:pic>
      <p:pic>
        <p:nvPicPr>
          <p:cNvPr id="360" name="11 Imagen" descr="20081124094235icono20inicio.jpg">
            <a:hlinkClick r:id="rId10" action="ppaction://hlinksldjump"/>
          </p:cNvPr>
          <p:cNvPicPr/>
          <p:nvPr/>
        </p:nvPicPr>
        <p:blipFill>
          <a:blip r:embed="rId11"/>
          <a:stretch/>
        </p:blipFill>
        <p:spPr>
          <a:xfrm>
            <a:off x="8572680" y="6072120"/>
            <a:ext cx="452160" cy="452520"/>
          </a:xfrm>
          <a:prstGeom prst="rect">
            <a:avLst/>
          </a:prstGeom>
          <a:ln w="0">
            <a:noFill/>
          </a:ln>
        </p:spPr>
      </p:pic>
      <p:pic>
        <p:nvPicPr>
          <p:cNvPr id="361" name="12 Rectángulo" descr=""/>
          <p:cNvPicPr/>
          <p:nvPr/>
        </p:nvPicPr>
        <p:blipFill>
          <a:blip r:embed="rId12"/>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3"/>
    <p:sldLayoutId id="2147483767" r:id="rId14"/>
    <p:sldLayoutId id="2147483768" r:id="rId15"/>
    <p:sldLayoutId id="2147483769" r:id="rId16"/>
    <p:sldLayoutId id="2147483770" r:id="rId17"/>
    <p:sldLayoutId id="2147483771" r:id="rId18"/>
    <p:sldLayoutId id="2147483772" r:id="rId19"/>
    <p:sldLayoutId id="2147483773" r:id="rId20"/>
    <p:sldLayoutId id="2147483774" r:id="rId21"/>
    <p:sldLayoutId id="2147483775" r:id="rId22"/>
    <p:sldLayoutId id="2147483776" r:id="rId23"/>
    <p:sldLayoutId id="2147483777" r:id="rId2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8799-51AA-405B-BC10-A3653594AE2A}"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7907-6A79-49FF-9B97-939ACAB86C8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07C6-3684-45C4-9C12-7AB63CCE149A}"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CE10-CDAE-41BA-87A3-7BDDFA1E25F1}"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E91A-B76F-43F4-8EEA-CBB780B3FF4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5D52-E1A8-4A4D-9E02-CABFA52854B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D85F-CE22-49BE-8E70-0CBA687E6803}"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8460-8349-4B12-B0EE-01F59AFAC1C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9F99-FF54-4544-92CD-7F6BB464F7AA}"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4E45-FEF3-4996-9C78-21AAF4B2776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E78F-99B0-4325-8096-BC6433E73E8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61.png"/><Relationship Id="rId5" Type="http://schemas.openxmlformats.org/officeDocument/2006/relationships/image" Target="../media/image58.png"/><Relationship Id="rId6" Type="http://schemas.openxmlformats.org/officeDocument/2006/relationships/image" Target="../media/image57.png"/><Relationship Id="rId7"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0.png"/><Relationship Id="rId3"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2"/>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7"/>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3"/>
          <a:stretch/>
        </p:blipFill>
        <p:spPr>
          <a:xfrm>
            <a:off x="3486240" y="2755800"/>
            <a:ext cx="689040" cy="378000"/>
          </a:xfrm>
          <a:prstGeom prst="rect">
            <a:avLst/>
          </a:prstGeom>
          <a:ln w="0">
            <a:noFill/>
          </a:ln>
        </p:spPr>
      </p:pic>
      <p:pic>
        <p:nvPicPr>
          <p:cNvPr id="661" name="6 Rectángulo" descr=""/>
          <p:cNvPicPr/>
          <p:nvPr/>
        </p:nvPicPr>
        <p:blipFill>
          <a:blip r:embed="rId4"/>
          <a:stretch/>
        </p:blipFill>
        <p:spPr>
          <a:xfrm>
            <a:off x="4913280" y="2755800"/>
            <a:ext cx="689040" cy="378000"/>
          </a:xfrm>
          <a:prstGeom prst="rect">
            <a:avLst/>
          </a:prstGeom>
          <a:ln w="0">
            <a:noFill/>
          </a:ln>
        </p:spPr>
      </p:pic>
      <p:pic>
        <p:nvPicPr>
          <p:cNvPr id="662" name="7 Rectángulo" descr=""/>
          <p:cNvPicPr/>
          <p:nvPr/>
        </p:nvPicPr>
        <p:blipFill>
          <a:blip r:embed="rId5"/>
          <a:stretch/>
        </p:blipFill>
        <p:spPr>
          <a:xfrm>
            <a:off x="6261120" y="3108240"/>
            <a:ext cx="712800" cy="378000"/>
          </a:xfrm>
          <a:prstGeom prst="rect">
            <a:avLst/>
          </a:prstGeom>
          <a:ln w="0">
            <a:noFill/>
          </a:ln>
        </p:spPr>
      </p:pic>
      <p:pic>
        <p:nvPicPr>
          <p:cNvPr id="663" name="8 Rectángulo" descr=""/>
          <p:cNvPicPr/>
          <p:nvPr/>
        </p:nvPicPr>
        <p:blipFill>
          <a:blip r:embed="rId6"/>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4-23T18:53:57Z</dcterms:modified>
  <cp:revision>75</cp:revision>
  <dc:subject/>
  <dc:title>Diapositiva 1</dc:title>
</cp:coreProperties>
</file>